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924D-4CE0-443B-AA0E-A5D6ACA4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070-FBBB-4C53-BCBF-FAF54CA6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676-6FBB-4919-B657-65655AD5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9653-2209-4231-A4C5-5F28079B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76A3-1912-48E5-A4AB-CC43D75D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DAF3-A371-425A-8D69-1CBEF109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435F-965B-4881-A12E-CC0B21FA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6803-C281-4B50-9759-C180997B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C29F-403F-4C54-B023-A54BD756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311F-5834-4370-B4B4-F578F77E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9F56-EA88-4ACA-BC77-89B80FD0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7D7-F479-402B-933A-49E4890F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6465-3C68-4F23-856E-60A61C9C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F81B-76F0-4933-8EB6-B8DA302C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05BC-D44D-4977-B29B-3DD2BE92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438D-A563-41B5-B37A-CF54B820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01F9-51FE-4A12-88A3-9495D463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61639-8663-4105-AF48-BA119E93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940F1-0916-4756-88C6-2848B509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F50E7-1A2F-4910-A8B4-459A2A31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846D4-D23D-4929-BCE2-FA443E15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F20DD-4E59-412D-A97D-19A5BC33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F61-EB7E-40F8-980D-761BCD23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FB3AB-6968-4711-890B-B64B4BD4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6310C-EE65-49EE-91CF-819FA51E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D903C-EDE4-4937-9AC2-3D958A7A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5D0BD-CDBA-4DA8-B753-6E4AAFC1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B03C2-93B8-4D96-910D-F1D1CB52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DA740-DC89-4C94-B43E-F4FD978F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F4406-B298-4434-92E1-570013D8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C1B54-C041-4AC2-8EF8-5E6EAAD2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B3A35-D890-47BF-B011-D13E130E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BE515-E9CB-460F-A342-FC566308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472-B349-44C8-98D0-1EBE9DCB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999FA-9E58-48CF-B8B9-04481432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C5427-4FF1-427D-89EE-115D9BC1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4ADBE-AD5A-421F-A0B1-7FA9BB3E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B1B78-9FB8-4928-8830-B0B5DF37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B0271-4D44-4D9C-8051-D8FB201C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D187D-2A89-410B-A311-948956F7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F22AB-16FD-41DE-AEE3-9CD5C4E3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68BD2-76F6-4EE8-8665-089C2FA8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F3B01-97A9-42CC-A5E5-97044899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959-65CE-4475-8456-74B62A7A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497C-E6CB-4714-82AF-2B0B7E05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74A-E3F7-4747-BD98-E15C0904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DCC0-9BD5-4CBD-824D-DB888778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D64-0CE4-467A-8A00-E2D948B1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9613-8388-4766-8763-36090AA2090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65CC-D500-45BA-AEB1-D447460DD1E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2D76-9C3F-4E86-AE48-5A0A8A3FCBC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C8E7-2D15-407E-B60B-1CF06F6A7A4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51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глед броја гена код различитих врс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66320" y="1752120"/>
            <a:ext cx="7086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Mycoplasma genitalium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470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ге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E. coli    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428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S. cerevisiae  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i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603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Arabidopsis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биљк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)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25.49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D. melanogaster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13.6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Z. mays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25.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Homo sapiens   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.000-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.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500" spc="-1" strike="noStrike">
                <a:solidFill>
                  <a:srgbClr val="000000"/>
                </a:solidFill>
                <a:latin typeface="Arial"/>
                <a:ea typeface="Arial"/>
              </a:rPr>
              <a:t>Псеудогени, фамилије гена, хаплотип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Секвенце сличне геним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псеудоген</a:t>
            </a:r>
            <a:r>
              <a:rPr b="1" i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и -функцинално 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 неактивн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Гени сличне нуклеотидне секвенце који се налазе на различитим хромозомима а детерминишу исто својство чине </a:t>
            </a:r>
            <a:r>
              <a:rPr b="1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фамилије гена 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(пр. фамилија гена за </a:t>
            </a:r>
            <a:r>
              <a:rPr b="1" i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хемоглобин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Гени који се налазе на истом хромозому и детермин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у исто својство чине </a:t>
            </a:r>
            <a:r>
              <a:rPr b="1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хаплотип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(гени за HLA </a:t>
            </a:r>
            <a:r>
              <a:rPr b="1" i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истем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500" spc="-1" strike="noStrike">
                <a:solidFill>
                  <a:srgbClr val="000000"/>
                </a:solidFill>
                <a:latin typeface="Arial"/>
                <a:ea typeface="Arial"/>
              </a:rPr>
              <a:t>Генски алели – </a:t>
            </a:r>
            <a:br>
              <a:rPr sz="4500"/>
            </a:br>
            <a:r>
              <a:rPr b="1" lang="sr-CS" sz="4500" spc="-1" strike="noStrike">
                <a:solidFill>
                  <a:srgbClr val="000000"/>
                </a:solidFill>
                <a:latin typeface="Arial"/>
                <a:ea typeface="Arial"/>
              </a:rPr>
              <a:t>генски полиморфиза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и облици једног истог гена су 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генски алел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Алели гена настају услед мутациј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Гени који никада нису мутирали су 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мономорфни ген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Гени који су мутирал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 имају више алелних облика</a:t>
            </a:r>
            <a:r>
              <a:rPr b="1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полиморфни ген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меном електрофорезе закључено је да је код човека 28% гена полиморфно, а 72% гена мономорфно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6,7% гена се налази у хетерозиготном стањ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ff0000"/>
                </a:solidFill>
                <a:latin typeface="Arial"/>
                <a:ea typeface="Arial"/>
              </a:rPr>
              <a:t>Полиморфни ген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Уколико ген има два алелна облик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диморфан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ген (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а) један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је функционалан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а друг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је нефункционала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Уколико ген има више алелних облика сви су функционални - сваки од њих доводи до синтезе истог протеина, али постоји разлика у једној или малом броју 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мино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иселин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(пр. ген з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BO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систем има три алела А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О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јава да ген има више алелних облика се назива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мултипни алелиз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4696920" y="1969920"/>
            <a:ext cx="696240" cy="2362320"/>
            <a:chOff x="4696920" y="1969920"/>
            <a:chExt cx="696240" cy="2362320"/>
          </a:xfrm>
        </p:grpSpPr>
        <p:grpSp>
          <p:nvGrpSpPr>
            <p:cNvPr id="224" name="Group 3"/>
            <p:cNvGrpSpPr/>
            <p:nvPr/>
          </p:nvGrpSpPr>
          <p:grpSpPr>
            <a:xfrm>
              <a:off x="4696920" y="2026440"/>
              <a:ext cx="696240" cy="2193480"/>
              <a:chOff x="4696920" y="2026440"/>
              <a:chExt cx="696240" cy="2193480"/>
            </a:xfrm>
          </p:grpSpPr>
          <p:sp>
            <p:nvSpPr>
              <p:cNvPr id="225" name="Freeform 4"/>
              <p:cNvSpPr/>
              <p:nvPr/>
            </p:nvSpPr>
            <p:spPr>
              <a:xfrm rot="418800">
                <a:off x="4833000" y="214200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5"/>
              <p:cNvSpPr/>
              <p:nvPr/>
            </p:nvSpPr>
            <p:spPr>
              <a:xfrm rot="418800">
                <a:off x="4820400" y="204516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Oval 6"/>
            <p:cNvSpPr/>
            <p:nvPr/>
          </p:nvSpPr>
          <p:spPr>
            <a:xfrm>
              <a:off x="4816440" y="196992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7"/>
            <p:cNvSpPr/>
            <p:nvPr/>
          </p:nvSpPr>
          <p:spPr>
            <a:xfrm>
              <a:off x="4816440" y="311292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8"/>
          <p:cNvSpPr/>
          <p:nvPr/>
        </p:nvSpPr>
        <p:spPr>
          <a:xfrm>
            <a:off x="1941480" y="465120"/>
            <a:ext cx="5791320" cy="862560"/>
          </a:xfrm>
          <a:prstGeom prst="rect">
            <a:avLst/>
          </a:prstGeom>
          <a:solidFill>
            <a:srgbClr val="009dd9"/>
          </a:soli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Black"/>
              </a:rPr>
              <a:t>ДОМИНАНТНИ АЛЕЛ</a:t>
            </a:r>
            <a:r>
              <a:rPr b="0" lang="sr-Latn-C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 Black"/>
              </a:rPr>
              <a:t>РЕЦЕСИВАН АЛ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9"/>
          <p:cNvGrpSpPr/>
          <p:nvPr/>
        </p:nvGrpSpPr>
        <p:grpSpPr>
          <a:xfrm>
            <a:off x="523440" y="1981080"/>
            <a:ext cx="696240" cy="2362320"/>
            <a:chOff x="523440" y="1981080"/>
            <a:chExt cx="696240" cy="2362320"/>
          </a:xfrm>
        </p:grpSpPr>
        <p:grpSp>
          <p:nvGrpSpPr>
            <p:cNvPr id="231" name="Group 10"/>
            <p:cNvGrpSpPr/>
            <p:nvPr/>
          </p:nvGrpSpPr>
          <p:grpSpPr>
            <a:xfrm>
              <a:off x="523440" y="2037600"/>
              <a:ext cx="696240" cy="2193480"/>
              <a:chOff x="523440" y="2037600"/>
              <a:chExt cx="696240" cy="2193480"/>
            </a:xfrm>
          </p:grpSpPr>
          <p:sp>
            <p:nvSpPr>
              <p:cNvPr id="232" name="Freeform 11"/>
              <p:cNvSpPr/>
              <p:nvPr/>
            </p:nvSpPr>
            <p:spPr>
              <a:xfrm rot="418800">
                <a:off x="659520" y="215316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2"/>
              <p:cNvSpPr/>
              <p:nvPr/>
            </p:nvSpPr>
            <p:spPr>
              <a:xfrm rot="418800">
                <a:off x="646920" y="205632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Oval 13"/>
            <p:cNvSpPr/>
            <p:nvPr/>
          </p:nvSpPr>
          <p:spPr>
            <a:xfrm>
              <a:off x="642960" y="19810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4"/>
            <p:cNvSpPr/>
            <p:nvPr/>
          </p:nvSpPr>
          <p:spPr>
            <a:xfrm>
              <a:off x="642960" y="31240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Oval 15"/>
          <p:cNvSpPr/>
          <p:nvPr/>
        </p:nvSpPr>
        <p:spPr>
          <a:xfrm>
            <a:off x="4827600" y="2428920"/>
            <a:ext cx="380880" cy="3049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6"/>
          <p:cNvSpPr/>
          <p:nvPr/>
        </p:nvSpPr>
        <p:spPr>
          <a:xfrm>
            <a:off x="2590920" y="465120"/>
            <a:ext cx="380880" cy="40500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7"/>
          <p:cNvSpPr/>
          <p:nvPr/>
        </p:nvSpPr>
        <p:spPr>
          <a:xfrm>
            <a:off x="2593800" y="981000"/>
            <a:ext cx="381240" cy="3049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18"/>
          <p:cNvGrpSpPr/>
          <p:nvPr/>
        </p:nvGrpSpPr>
        <p:grpSpPr>
          <a:xfrm>
            <a:off x="1050480" y="1981080"/>
            <a:ext cx="696240" cy="2362320"/>
            <a:chOff x="1050480" y="1981080"/>
            <a:chExt cx="696240" cy="2362320"/>
          </a:xfrm>
        </p:grpSpPr>
        <p:grpSp>
          <p:nvGrpSpPr>
            <p:cNvPr id="240" name="Group 19"/>
            <p:cNvGrpSpPr/>
            <p:nvPr/>
          </p:nvGrpSpPr>
          <p:grpSpPr>
            <a:xfrm>
              <a:off x="1050480" y="2037600"/>
              <a:ext cx="696240" cy="2193480"/>
              <a:chOff x="1050480" y="2037600"/>
              <a:chExt cx="696240" cy="2193480"/>
            </a:xfrm>
          </p:grpSpPr>
          <p:sp>
            <p:nvSpPr>
              <p:cNvPr id="241" name="Freeform 20"/>
              <p:cNvSpPr/>
              <p:nvPr/>
            </p:nvSpPr>
            <p:spPr>
              <a:xfrm rot="418800">
                <a:off x="1186560" y="215316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1"/>
              <p:cNvSpPr/>
              <p:nvPr/>
            </p:nvSpPr>
            <p:spPr>
              <a:xfrm rot="418800">
                <a:off x="1173960" y="205632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Oval 22"/>
            <p:cNvSpPr/>
            <p:nvPr/>
          </p:nvSpPr>
          <p:spPr>
            <a:xfrm>
              <a:off x="1170000" y="19810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3"/>
            <p:cNvSpPr/>
            <p:nvPr/>
          </p:nvSpPr>
          <p:spPr>
            <a:xfrm>
              <a:off x="1170000" y="31240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24"/>
          <p:cNvGrpSpPr/>
          <p:nvPr/>
        </p:nvGrpSpPr>
        <p:grpSpPr>
          <a:xfrm>
            <a:off x="4166640" y="1981080"/>
            <a:ext cx="696240" cy="2362320"/>
            <a:chOff x="4166640" y="1981080"/>
            <a:chExt cx="696240" cy="2362320"/>
          </a:xfrm>
        </p:grpSpPr>
        <p:grpSp>
          <p:nvGrpSpPr>
            <p:cNvPr id="246" name="Group 25"/>
            <p:cNvGrpSpPr/>
            <p:nvPr/>
          </p:nvGrpSpPr>
          <p:grpSpPr>
            <a:xfrm>
              <a:off x="4166640" y="2037600"/>
              <a:ext cx="696240" cy="2193480"/>
              <a:chOff x="4166640" y="2037600"/>
              <a:chExt cx="696240" cy="2193480"/>
            </a:xfrm>
          </p:grpSpPr>
          <p:sp>
            <p:nvSpPr>
              <p:cNvPr id="247" name="Freeform 26"/>
              <p:cNvSpPr/>
              <p:nvPr/>
            </p:nvSpPr>
            <p:spPr>
              <a:xfrm rot="418800">
                <a:off x="4302720" y="215316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7"/>
              <p:cNvSpPr/>
              <p:nvPr/>
            </p:nvSpPr>
            <p:spPr>
              <a:xfrm rot="418800">
                <a:off x="4290120" y="205632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Oval 28"/>
            <p:cNvSpPr/>
            <p:nvPr/>
          </p:nvSpPr>
          <p:spPr>
            <a:xfrm>
              <a:off x="4286160" y="19810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9"/>
            <p:cNvSpPr/>
            <p:nvPr/>
          </p:nvSpPr>
          <p:spPr>
            <a:xfrm>
              <a:off x="4286160" y="31240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Oval 30"/>
          <p:cNvSpPr/>
          <p:nvPr/>
        </p:nvSpPr>
        <p:spPr>
          <a:xfrm>
            <a:off x="1195560" y="2457360"/>
            <a:ext cx="380880" cy="3049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1"/>
          <p:cNvSpPr/>
          <p:nvPr/>
        </p:nvSpPr>
        <p:spPr>
          <a:xfrm>
            <a:off x="625320" y="2476440"/>
            <a:ext cx="381240" cy="3049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2"/>
          <p:cNvSpPr/>
          <p:nvPr/>
        </p:nvSpPr>
        <p:spPr>
          <a:xfrm>
            <a:off x="4302000" y="2444760"/>
            <a:ext cx="381240" cy="3049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3"/>
          <p:cNvGrpSpPr/>
          <p:nvPr/>
        </p:nvGrpSpPr>
        <p:grpSpPr>
          <a:xfrm>
            <a:off x="7156080" y="1927080"/>
            <a:ext cx="696240" cy="2362320"/>
            <a:chOff x="7156080" y="1927080"/>
            <a:chExt cx="696240" cy="2362320"/>
          </a:xfrm>
        </p:grpSpPr>
        <p:grpSp>
          <p:nvGrpSpPr>
            <p:cNvPr id="255" name="Group 34"/>
            <p:cNvGrpSpPr/>
            <p:nvPr/>
          </p:nvGrpSpPr>
          <p:grpSpPr>
            <a:xfrm>
              <a:off x="7156080" y="1983600"/>
              <a:ext cx="696240" cy="2193480"/>
              <a:chOff x="7156080" y="1983600"/>
              <a:chExt cx="696240" cy="2193480"/>
            </a:xfrm>
          </p:grpSpPr>
          <p:sp>
            <p:nvSpPr>
              <p:cNvPr id="256" name="Freeform 35"/>
              <p:cNvSpPr/>
              <p:nvPr/>
            </p:nvSpPr>
            <p:spPr>
              <a:xfrm rot="418800">
                <a:off x="7292160" y="209916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36"/>
              <p:cNvSpPr/>
              <p:nvPr/>
            </p:nvSpPr>
            <p:spPr>
              <a:xfrm rot="418800">
                <a:off x="7279560" y="2002320"/>
                <a:ext cx="436680" cy="205884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840"/>
                  <a:gd name="textAreaBottom" fmla="*/ 2059200 h 205884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Oval 37"/>
            <p:cNvSpPr/>
            <p:nvPr/>
          </p:nvSpPr>
          <p:spPr>
            <a:xfrm>
              <a:off x="7275600" y="19270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38"/>
            <p:cNvSpPr/>
            <p:nvPr/>
          </p:nvSpPr>
          <p:spPr>
            <a:xfrm>
              <a:off x="7275600" y="3070080"/>
              <a:ext cx="380880" cy="121932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39"/>
          <p:cNvGrpSpPr/>
          <p:nvPr/>
        </p:nvGrpSpPr>
        <p:grpSpPr>
          <a:xfrm>
            <a:off x="7721280" y="1932120"/>
            <a:ext cx="696240" cy="2361600"/>
            <a:chOff x="7721280" y="1932120"/>
            <a:chExt cx="696240" cy="2361600"/>
          </a:xfrm>
        </p:grpSpPr>
        <p:grpSp>
          <p:nvGrpSpPr>
            <p:cNvPr id="261" name="Group 40"/>
            <p:cNvGrpSpPr/>
            <p:nvPr/>
          </p:nvGrpSpPr>
          <p:grpSpPr>
            <a:xfrm>
              <a:off x="7721280" y="1988280"/>
              <a:ext cx="696240" cy="2193120"/>
              <a:chOff x="7721280" y="1988280"/>
              <a:chExt cx="696240" cy="2193120"/>
            </a:xfrm>
          </p:grpSpPr>
          <p:sp>
            <p:nvSpPr>
              <p:cNvPr id="262" name="Freeform 41"/>
              <p:cNvSpPr/>
              <p:nvPr/>
            </p:nvSpPr>
            <p:spPr>
              <a:xfrm rot="418800">
                <a:off x="7857360" y="2103840"/>
                <a:ext cx="436680" cy="205848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480"/>
                  <a:gd name="textAreaBottom" fmla="*/ 2058840 h 205848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42"/>
              <p:cNvSpPr/>
              <p:nvPr/>
            </p:nvSpPr>
            <p:spPr>
              <a:xfrm rot="418800">
                <a:off x="7844760" y="2007000"/>
                <a:ext cx="436680" cy="2058480"/>
              </a:xfrm>
              <a:custGeom>
                <a:avLst/>
                <a:gdLst>
                  <a:gd name="textAreaLeft" fmla="*/ 0 w 436680"/>
                  <a:gd name="textAreaRight" fmla="*/ 437040 w 436680"/>
                  <a:gd name="textAreaTop" fmla="*/ 0 h 2058480"/>
                  <a:gd name="textAreaBottom" fmla="*/ 2058840 h 2058480"/>
                </a:gdLst>
                <a:ahLst/>
                <a:rect l="textAreaLeft" t="textAreaTop" r="textAreaRight" b="textAreaBottom"/>
                <a:pathLst>
                  <a:path w="784" h="4176">
                    <a:moveTo>
                      <a:pt x="208" y="0"/>
                    </a:moveTo>
                    <a:cubicBezTo>
                      <a:pt x="104" y="44"/>
                      <a:pt x="0" y="88"/>
                      <a:pt x="16" y="144"/>
                    </a:cubicBezTo>
                    <a:cubicBezTo>
                      <a:pt x="32" y="200"/>
                      <a:pt x="304" y="264"/>
                      <a:pt x="304" y="336"/>
                    </a:cubicBezTo>
                    <a:cubicBezTo>
                      <a:pt x="304" y="408"/>
                      <a:pt x="8" y="496"/>
                      <a:pt x="16" y="576"/>
                    </a:cubicBezTo>
                    <a:cubicBezTo>
                      <a:pt x="24" y="656"/>
                      <a:pt x="344" y="736"/>
                      <a:pt x="352" y="816"/>
                    </a:cubicBezTo>
                    <a:cubicBezTo>
                      <a:pt x="360" y="896"/>
                      <a:pt x="56" y="976"/>
                      <a:pt x="64" y="1056"/>
                    </a:cubicBezTo>
                    <a:cubicBezTo>
                      <a:pt x="72" y="1136"/>
                      <a:pt x="400" y="1216"/>
                      <a:pt x="400" y="1296"/>
                    </a:cubicBezTo>
                    <a:cubicBezTo>
                      <a:pt x="400" y="1376"/>
                      <a:pt x="56" y="1456"/>
                      <a:pt x="64" y="1536"/>
                    </a:cubicBezTo>
                    <a:cubicBezTo>
                      <a:pt x="72" y="1616"/>
                      <a:pt x="440" y="1696"/>
                      <a:pt x="448" y="1776"/>
                    </a:cubicBezTo>
                    <a:cubicBezTo>
                      <a:pt x="456" y="1856"/>
                      <a:pt x="96" y="1936"/>
                      <a:pt x="112" y="2016"/>
                    </a:cubicBezTo>
                    <a:cubicBezTo>
                      <a:pt x="128" y="2096"/>
                      <a:pt x="536" y="2160"/>
                      <a:pt x="544" y="2256"/>
                    </a:cubicBezTo>
                    <a:cubicBezTo>
                      <a:pt x="552" y="2352"/>
                      <a:pt x="144" y="2488"/>
                      <a:pt x="160" y="2592"/>
                    </a:cubicBezTo>
                    <a:cubicBezTo>
                      <a:pt x="176" y="2696"/>
                      <a:pt x="624" y="2776"/>
                      <a:pt x="640" y="2880"/>
                    </a:cubicBezTo>
                    <a:cubicBezTo>
                      <a:pt x="656" y="2984"/>
                      <a:pt x="248" y="3120"/>
                      <a:pt x="256" y="3216"/>
                    </a:cubicBezTo>
                    <a:cubicBezTo>
                      <a:pt x="264" y="3312"/>
                      <a:pt x="664" y="3368"/>
                      <a:pt x="688" y="3456"/>
                    </a:cubicBezTo>
                    <a:cubicBezTo>
                      <a:pt x="712" y="3544"/>
                      <a:pt x="384" y="3664"/>
                      <a:pt x="400" y="3744"/>
                    </a:cubicBezTo>
                    <a:cubicBezTo>
                      <a:pt x="416" y="3824"/>
                      <a:pt x="784" y="3864"/>
                      <a:pt x="784" y="3936"/>
                    </a:cubicBezTo>
                    <a:cubicBezTo>
                      <a:pt x="784" y="4008"/>
                      <a:pt x="472" y="4128"/>
                      <a:pt x="400" y="4176"/>
                    </a:cubicBezTo>
                  </a:path>
                </a:pathLst>
              </a:custGeom>
              <a:noFill/>
              <a:ln w="38160">
                <a:solidFill>
                  <a:srgbClr val="0f6fc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Oval 43"/>
            <p:cNvSpPr/>
            <p:nvPr/>
          </p:nvSpPr>
          <p:spPr>
            <a:xfrm>
              <a:off x="7840800" y="1932120"/>
              <a:ext cx="380880" cy="121896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44"/>
            <p:cNvSpPr/>
            <p:nvPr/>
          </p:nvSpPr>
          <p:spPr>
            <a:xfrm>
              <a:off x="7840800" y="3074760"/>
              <a:ext cx="380880" cy="1218960"/>
            </a:xfrm>
            <a:prstGeom prst="ellipse">
              <a:avLst/>
            </a:prstGeom>
            <a:noFill/>
            <a:ln w="381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45"/>
          <p:cNvSpPr/>
          <p:nvPr/>
        </p:nvSpPr>
        <p:spPr>
          <a:xfrm>
            <a:off x="0" y="4495680"/>
            <a:ext cx="2590920" cy="1008360"/>
          </a:xfrm>
          <a:prstGeom prst="rect">
            <a:avLst/>
          </a:prstGeom>
          <a:solidFill>
            <a:srgbClr val="009dd9"/>
          </a:soli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 Black"/>
              </a:rPr>
              <a:t>ДОМИНАНТНИ ХОМОЗИГО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AA</a:t>
            </a:r>
            <a:r>
              <a:rPr b="1" lang="sr-Latn-C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Arial Black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6"/>
          <p:cNvSpPr/>
          <p:nvPr/>
        </p:nvSpPr>
        <p:spPr>
          <a:xfrm>
            <a:off x="3421080" y="4532400"/>
            <a:ext cx="2819520" cy="459720"/>
          </a:xfrm>
          <a:prstGeom prst="rect">
            <a:avLst/>
          </a:prstGeom>
          <a:solidFill>
            <a:srgbClr val="009dd9"/>
          </a:soli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 Black"/>
              </a:rPr>
              <a:t>ХЕТЕРОЗИГОТ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7"/>
          <p:cNvSpPr/>
          <p:nvPr/>
        </p:nvSpPr>
        <p:spPr>
          <a:xfrm>
            <a:off x="6762600" y="4390920"/>
            <a:ext cx="2381400" cy="734040"/>
          </a:xfrm>
          <a:prstGeom prst="rect">
            <a:avLst/>
          </a:prstGeom>
          <a:solidFill>
            <a:srgbClr val="009dd9"/>
          </a:solidFill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 Black"/>
              </a:rPr>
              <a:t>РЕЦЕСИВ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 Black"/>
              </a:rPr>
              <a:t>ХОМОЗИГОТ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48"/>
          <p:cNvSpPr/>
          <p:nvPr/>
        </p:nvSpPr>
        <p:spPr>
          <a:xfrm>
            <a:off x="7859880" y="2384280"/>
            <a:ext cx="380880" cy="3049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9"/>
          <p:cNvSpPr/>
          <p:nvPr/>
        </p:nvSpPr>
        <p:spPr>
          <a:xfrm>
            <a:off x="7269120" y="2384280"/>
            <a:ext cx="380880" cy="3049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2590920" y="841320"/>
            <a:ext cx="4267080" cy="18288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Једарни и митохондријални геном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000000"/>
                </a:solidFill>
                <a:latin typeface="Arial"/>
                <a:ea typeface="Arial"/>
              </a:rPr>
              <a:t>Митохондријални геном - материнско наслеђивање</a:t>
            </a:r>
            <a:br>
              <a:rPr sz="3500"/>
            </a:br>
            <a:r>
              <a:rPr b="1" lang="sr-CS" sz="3500" spc="-1" strike="noStrike">
                <a:solidFill>
                  <a:srgbClr val="000000"/>
                </a:solidFill>
                <a:latin typeface="Arial"/>
                <a:ea typeface="Arial"/>
              </a:rPr>
              <a:t>25. хромозом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980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6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ffff00"/>
                </a:solidFill>
                <a:latin typeface="Constantia"/>
              </a:rPr>
              <a:t>    </a:t>
            </a:r>
            <a:r>
              <a:rPr b="1" lang="en-US" sz="800" spc="-1" strike="noStrike">
                <a:solidFill>
                  <a:srgbClr val="ffff00"/>
                </a:solidFill>
                <a:latin typeface="Constanti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ff6699"/>
                </a:solidFill>
                <a:latin typeface="Constantia"/>
              </a:rPr>
              <a:t>          </a:t>
            </a:r>
            <a:r>
              <a:rPr b="1" lang="sr-CS" sz="1700" spc="-1" strike="noStrike" u="sng">
                <a:solidFill>
                  <a:srgbClr val="0f6fc6"/>
                </a:solidFill>
                <a:uFillTx/>
                <a:latin typeface="Constantia"/>
              </a:rPr>
              <a:t>Митохондријална ДНК</a:t>
            </a:r>
            <a:r>
              <a:rPr b="1" lang="sr-CS" sz="1700" spc="-1" strike="noStrike">
                <a:solidFill>
                  <a:srgbClr val="0f6fc6"/>
                </a:solidFill>
                <a:latin typeface="Constantia"/>
              </a:rPr>
              <a:t>                                         </a:t>
            </a:r>
            <a:r>
              <a:rPr b="1" lang="sr-CS" sz="1700" spc="-1" strike="noStrike" u="sng">
                <a:solidFill>
                  <a:srgbClr val="0f6fc6"/>
                </a:solidFill>
                <a:uFillTx/>
                <a:latin typeface="Constantia"/>
              </a:rPr>
              <a:t>Једарна ДНК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ДНК је дуга  16.569 bp    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3 000. 000. 000 bp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хромозом  циркуларног облика   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24 хромозома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ДНК није у контексту са хистонима    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у контексту са  хистонима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Не де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шава се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crossing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ver    </a:t>
            </a: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                                   де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шава се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crossing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о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ver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Репаративни механизми су спорији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             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ефикасна репарација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Нема интрона     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дисконтинуирана гра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ђ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а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Гени се јављају у већем броју копија                      једна копија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Обухвата 37 гена од којих 24 кодирају РНК        </a:t>
            </a:r>
            <a:r>
              <a:rPr b="1" lang="sr-CS" sz="17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од 20 000-25 000</a:t>
            </a: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гена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(22 тРНК и 2 рРНК), осталих 13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lang="sr-Latn-CS" sz="1700" spc="-1" strike="noStrike">
                <a:solidFill>
                  <a:srgbClr val="000000"/>
                </a:solidFill>
                <a:latin typeface="Constantia"/>
              </a:rPr>
              <a:t>кодирају протеине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0880" y="1295280"/>
            <a:ext cx="83059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Генет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ч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и код хуман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НК је јединствен, 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личит од једарног код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 и 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G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ргин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 мтДНК су стоп кодон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G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топ код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 митохондријам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дир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иптоф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тДНК се током еволуције повећавала уметањем секвенци које се не преписуј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ком еволуције долазило је до рекомбинације изм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 мтДНК и ДНК хромозома, па се тако ген за субјединицу 9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А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аз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лази на ДНК хромозома код човека, а код квасца на мтДНК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609480" y="12189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јвећи број протеина потребних у митохондријама се синтетише у цитоплаз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пликација се одвија помоћу полимеразе која долази вероватно из цитоплазм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итохондријални гени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ју ф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пска својства-материнско насл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вањ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еуромускуларне болести су често последица мутације мтДНК и преносе се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матроклино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ХУМАНИ</a:t>
            </a:r>
            <a:r>
              <a:rPr b="1" lang="sr-CS" sz="5000" spc="-1" strike="noStrike">
                <a:solidFill>
                  <a:srgbClr val="000000"/>
                </a:solidFill>
                <a:latin typeface="Calibri"/>
              </a:rPr>
              <a:t> ГЕН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376920" indent="-3769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еноти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је скуп гена у орг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м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76920" indent="-3769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отип је скуп гена у ћелиј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76920" indent="-3769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отип је комбинација генских алела која детерминише неку особину (Аа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76920" indent="-3769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Ге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 скуп гена у хаплоидној хромозомској гарнитур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76920" indent="-3769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Феноти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 скуп особина организма које настају услед интеракције генотипа и фактора среди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76920" indent="-3769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ормула за израчунавањ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отипа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енотип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број особина које се прате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r>
              <a:rPr b="1" lang="sr-CS" sz="3900" spc="-1" strike="noStrike">
                <a:solidFill>
                  <a:srgbClr val="000000"/>
                </a:solidFill>
                <a:latin typeface="Arial"/>
                <a:ea typeface="Arial"/>
              </a:rPr>
              <a:t>Хумани геном</a:t>
            </a:r>
            <a:br>
              <a:rPr sz="3900"/>
            </a:br>
            <a:endParaRPr b="0" lang="en-US" sz="3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sr-Latn-CS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Једарни геном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НК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око 3.000 000 0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p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диференцира се у 24 различита хромозом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Митохондријални геном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(25. хромозом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– ДНК око 16.5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p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Једарни ген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3399"/>
                </a:solidFill>
                <a:latin typeface="Arial"/>
                <a:ea typeface="Arial"/>
              </a:rPr>
              <a:t>Ге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је секвенца ДНК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ја детерми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ше синтезу ф-налног молекула (протеин или РНК молекул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ошто се целом дужином хромозома просторе ДНК, значи да су гени распоређени дуж хромозома (</a:t>
            </a:r>
            <a:r>
              <a:rPr b="1" lang="sr-Latn-CS" sz="2200" spc="-1" strike="noStrike">
                <a:solidFill>
                  <a:srgbClr val="ff3399"/>
                </a:solidFill>
                <a:latin typeface="Arial"/>
                <a:ea typeface="Arial"/>
              </a:rPr>
              <a:t>генски локус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3399"/>
                </a:solidFill>
                <a:latin typeface="Arial"/>
                <a:ea typeface="Arial"/>
              </a:rPr>
              <a:t>Генска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200" spc="-1" strike="noStrike">
                <a:solidFill>
                  <a:srgbClr val="ff3399"/>
                </a:solidFill>
                <a:latin typeface="Arial"/>
                <a:ea typeface="Arial"/>
              </a:rPr>
              <a:t>мапа</a:t>
            </a:r>
            <a:r>
              <a:rPr b="1" lang="en-US" sz="2200" spc="-1" strike="noStrike">
                <a:solidFill>
                  <a:srgbClr val="ff3399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распоред гена на хромозому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4" descr="Genes&amp;DNA"/>
          <p:cNvPicPr/>
          <p:nvPr/>
        </p:nvPicPr>
        <p:blipFill>
          <a:blip r:embed="rId1">
            <a:grayscl/>
          </a:blip>
          <a:srcRect l="0" t="0" r="0" b="11166"/>
          <a:stretch/>
        </p:blipFill>
        <p:spPr>
          <a:xfrm>
            <a:off x="4648320" y="2111400"/>
            <a:ext cx="4038480" cy="32227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43000" y="1447560"/>
            <a:ext cx="7238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Функције ген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Носи информацију за синтезу проте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Има способност мут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Има способност ауторепродукциј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ff3399"/>
                </a:solidFill>
                <a:latin typeface="Arial"/>
                <a:ea typeface="Arial"/>
              </a:rPr>
              <a:t>Структура гена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гена зависи од распореда и редоследа 4 типа нуклеотида (А тип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тип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тип, Т тип нуклеотид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6" descr="Click for a 3D View of a small double helix of 4 nucleotides or a bigger B helix form"/>
          <p:cNvPicPr/>
          <p:nvPr/>
        </p:nvPicPr>
        <p:blipFill>
          <a:blip r:embed="rId1"/>
          <a:stretch/>
        </p:blipFill>
        <p:spPr>
          <a:xfrm>
            <a:off x="4648320" y="1447920"/>
            <a:ext cx="4267080" cy="46479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У гену еукариота алтернирају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кодирајућ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некодирајућ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секвен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сконтинуирана грађ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4" descr="RNA%20senthesis%20processing"/>
          <p:cNvPicPr/>
          <p:nvPr/>
        </p:nvPicPr>
        <p:blipFill>
          <a:blip r:embed="rId1"/>
          <a:srcRect l="0" t="0" r="0" b="47397"/>
          <a:stretch/>
        </p:blipFill>
        <p:spPr>
          <a:xfrm>
            <a:off x="990720" y="1905120"/>
            <a:ext cx="6705360" cy="35226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210" name="Rectangle 6"/>
          <p:cNvSpPr/>
          <p:nvPr/>
        </p:nvSpPr>
        <p:spPr>
          <a:xfrm>
            <a:off x="2057400" y="5791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одирајућа секвенца - 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ег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Некодирајућа секвенца – 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инт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ff3399"/>
                </a:solidFill>
                <a:latin typeface="Arial"/>
                <a:ea typeface="Arial"/>
              </a:rPr>
              <a:t>Величина ге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7848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Ген је у просеку велики 600-18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 једног нуклеотида је 0,34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Ако је ген у просеку велики 10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p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то је 4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могућих комбинација које остварују 4 типа нуклеоти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Највећи ген је </a:t>
            </a:r>
            <a:r>
              <a:rPr b="1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дистрофин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79 егзона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и  налази се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на </a:t>
            </a:r>
            <a:r>
              <a:rPr b="0" i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краку X хромозо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ff3399"/>
                </a:solidFill>
                <a:latin typeface="Arial"/>
                <a:ea typeface="Arial"/>
              </a:rPr>
              <a:t>Број једарних ген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Човек има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20.000-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25.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000 ген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мад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на основу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ос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ог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математич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ог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прерачунавањ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укуп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дужи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ДН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долазимо да закључка да се на молекулу ДНК налази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далеко већи број ген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Човек нем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олико гена зато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што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Нису сви делови ДНК актив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Нису сви гени исте величине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Ryzen</cp:lastModifiedBy>
  <dcterms:modified xsi:type="dcterms:W3CDTF">2022-01-18T11:54:19Z</dcterms:modified>
  <cp:revision>59</cp:revision>
  <dc:subject/>
  <dc:title>2-Humani genom</dc:title>
</cp:coreProperties>
</file>